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1C6-2D4C-4B91-B0C1-3C65BB6D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495-2AC1-404E-AF1D-0C1B49C2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244-844F-4F30-882C-8E0110B3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B9A-1E19-49C6-B0F9-E5202EDB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5742-5B0C-47B7-B40B-306FA06B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A6B9-3EF4-4EE8-9620-1F3BC9D4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95A3-1D7B-41DE-8959-C6EB9F42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E4A2-1CBC-4CE3-9E79-F280800F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DFD8-8ED4-4291-966A-11C80D9E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7529-3DE1-44E9-98E0-9F4A59DA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93A2-CE63-41C9-89D5-60366E1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F8E-7001-4B8F-9CB2-1BB9F377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8AA7-2C1E-4C59-85F3-11618075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7AA1-73C1-4F1F-93BD-5A002020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1A08-DB84-4AEA-921D-5AC55B82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4FD5-A93E-4A58-873A-599ADE6C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1FC4-DE92-4CD0-8DAF-D2DDA0C2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029-30F2-4C43-B36B-287DAA31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373-5E61-4A25-8032-303AD95A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874-90D0-4BE8-AC32-942873E8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5FD-A135-4C35-B1C4-996DB6CF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D5B-5740-4234-90E2-CC384E42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D0B-F0C7-4E58-859A-24DE422E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527-4806-46AA-B24B-E80C96EB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5D4F-B155-4178-833E-C28B8355E516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4156-01EE-4743-9017-2198DA2C445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4961-E471-4F90-9606-C5E51900F2A8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7CB9-3594-4C67-8AB5-BA29231F4F8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Алициклические углеводороды. Теория Байера.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0AC-2357-47BE-B13C-4D68203E0A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иклоалканы – это циклические углеводороды, не содержащие в молекуле кратных связ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иклоалканы – это циклические углеводороды, не содержащие в молекуле кратных связ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0BD-CDFC-42D6-B155-DFC5648980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щая формул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nH2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0D3-C79A-42EB-8A31-9968A70D3A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img3"/>
          <p:cNvPicPr/>
          <p:nvPr/>
        </p:nvPicPr>
        <p:blipFill>
          <a:blip r:embed="rId2"/>
          <a:stretch/>
        </p:blipFill>
        <p:spPr>
          <a:xfrm>
            <a:off x="68580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E8F-66AD-453E-A6A3-65EAAF544D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img4"/>
          <p:cNvPicPr/>
          <p:nvPr/>
        </p:nvPicPr>
        <p:blipFill>
          <a:blip r:embed="rId2"/>
          <a:stretch/>
        </p:blipFill>
        <p:spPr>
          <a:xfrm>
            <a:off x="228600" y="22860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941-3C39-4189-9815-D366568669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g5"/>
          <p:cNvPicPr/>
          <p:nvPr/>
        </p:nvPicPr>
        <p:blipFill>
          <a:blip r:embed="rId2"/>
          <a:stretch/>
        </p:blipFill>
        <p:spPr>
          <a:xfrm>
            <a:off x="380880" y="457200"/>
            <a:ext cx="822960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40F-AC35-482B-BDB6-4A243754A3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 обычных условиях первые два члена ряда гм(С3 - С4) - газы, (С5 - С16) - жидкости, начиная с С17 - твердые вещества. Температуры кипения и плавления циклоалканов выше, чем у соответствующих алканов. Циклоалканы в воде практически не растворяются. При увеличении числа атомов "С" возрастает Молярная масса, следовательно увеличивается температура плавления. Температуры плавления и кипения некоторых циклоалканов, град.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пропан С3H6 –127,5 -32,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бутан С4H8 –50 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пентан С5H10 –93,9 49,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гексан С6H12 6,5 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гептан С7H14 –12 118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октан С8H16 14,3 63 при 45 мм рт.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нонан С9H18 9,7 69 при 14 мм рт.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декан С10H20 10,8 2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ундекан С11H22 –7,2 91 при 12 мм рт.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додекан С12H24 61,6 2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тридекан С13H26 23,5 128 при 20 мм рт.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тетрадекан С14H28 54 131 при 11 мм рт.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клопентадекан С15H30 62,1 147 при 12 мм рт.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AEE-90BC-4475-9F29-FAC20556A4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mg6"/>
          <p:cNvPicPr/>
          <p:nvPr/>
        </p:nvPicPr>
        <p:blipFill>
          <a:blip r:embed="rId3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70B-0F0B-4FE8-8A4B-09E57BCA90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акции замещ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6Н12 + Br2 = С6Н11Вr + H 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иклогексан бромциклогекс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E01-D1E8-4A97-B413-C2A51FFFC6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Дегалогенир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Br-СН2-СН2-СН2-Br + Mg = циклопропан + MgBr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Гидрирование ароматических углеводородов (катализатор, давление, температур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6Н6 +3Н2 = С6Н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2B4-28B9-4DFC-8979-4ADD25EA8A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1" descr="HimR10-34"/>
          <p:cNvPicPr/>
          <p:nvPr/>
        </p:nvPicPr>
        <p:blipFill>
          <a:blip r:embed="rId2"/>
          <a:stretch/>
        </p:blipFill>
        <p:spPr>
          <a:xfrm>
            <a:off x="838080" y="457200"/>
            <a:ext cx="7315200" cy="57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3F3-D93A-4626-B32C-2ABBB87A28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оганн Фридрих Вильгельм Адольф фон Байер-немецкий химик-органик, лауреат Нобелевской премии по химии 1905 года, основатель концерна Bay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1858 года в течение двух лет он вместе с Кекуле работал в Гентском университете в Бельгии, а затем возвратился в Берлин, где читал лекции по химии в Берлинской высшей технической школе. В 1872 году Байер переехал в Страсбург и занял место профессора химии в Страсбургском университете. В 1875 году, после смерти Юстуса фон Либиха, Байер стал преемником этого известного химика-органика, заняв должность профессора химии в Мюнхенском университет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885 году, в день 50-летия Байера, в знак признания его заслуг перед Германией учёному был пожалован наследственный титул, давший право ставить частицу «фон» перед фамилией. В число наград, полученных Байером, входила медаль Дэви, присуждённая Лондонским королевским обществом. Он был членом Берлинской академии наук и Германского химического обще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EDB-9AF1-4AF6-91C5-297C7830A6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img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2F3-8F96-44AA-B878-2A128417A9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195120" y="304920"/>
            <a:ext cx="4876920" cy="632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96252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1C4-E700-4D10-811F-078687EB42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оё первое химическое открытие Байер сделал в 12-летнем возрасте, получив новую двойную соль — карбонат меди и натр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998-1E87-4D75-9EC4-7C5EC03ED4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308800" cy="1176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вой важной работой Байера стало его исследование простейших мышьякорганических соединений, произведённое им в конце 50-х годов в лаборатории Бунзена. Байер открыл барбитуровую кислоту и барбитураты (186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866 году получил окислением индиго изатин (впервые выделенный в 1841 году французским химиком О. Лораном) и ввёл метод восстановления органических соединений цинковой пылью в практику органического синте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869 году (совместно с немецким химиком А. Эммерлингом) синтезировал индол сплавлением o-нитрокоричной кислоты с гидроксидом калия, затем его производные, в том числе изатин. конденсацией аммиака с ацетальдегидом получил пиколины и коллидины (187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CC7B-65C2-4CD3-A8CC-5922B8E3EB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становил нафталин до тетрагидронафталина и мезитилен до тетрагидромезитилена (187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местно с Г. Каро в 1870 году синтезировал индол из этиланилина. В 1879 году открыл индофениловую реакцию — появление синего окрашивания при смешении бензола с изатином в присутствии концентрированной серной кисло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ил синтез индиго из динитрофенилдиацетилена (1883) и предложил его структурную формулу; эти работы Байера сделали возможным промышленное производство синтетического индиг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учил инден из o-ди(бромметил)бензола и натриймалонового эфира (1884), терефталевую кислоту (1886) и геометрические изомеры гексагидрофталевой кислоты (1888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DB7-651C-4BA0-845A-31F636618F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885 году Байер выдвинул теорию напряжения, устанавливающую зависимость прочности углеводородных циклов от величины углов между связями углерод-углерод. В 1887 году экспериментально доказал идентичность всех углеродных атомов в бензоле и предложил (одновременно с Г. Э. Армстронгом) центрическую формулу бензола. Ввёл в структурную теорию понятие о цис-транс-изомерии (1888); в 1896 году обнаружил цис-транс-изомерию в ряду терп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DBA-BE84-4E8F-AFA6-B4C6EC4FB7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2"/>
          <a:stretch/>
        </p:blipFill>
        <p:spPr>
          <a:xfrm>
            <a:off x="341280" y="274680"/>
            <a:ext cx="8540640" cy="1249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ициклические соединения определяют как карбоциклические (в цикле присутствуют только атомы углерода) соединения, которые в своих реакциях обнаруживают преимущественно алифатический характер в противоположность поведению ароматических соединений. Их удобно подразделить по числу колец в молекуле на моноциклические (одноядерные) и полициклические (многоядерные - бициклические, трициклические и т.д.) кольцевые системы. Многие насыщенные алициклические углеводороды найдены в нефти. Ненасыщенные алициклические углеводороды, возникающие, по крайней мере формально, при полимеризации изопрена CH2=C(CH3)CH=CH2 и известные под названием терпенов, в изобилии встречаются во многих эфирных маслах. Алициклические системы часто встречаются в природных соединениях, иных, чем терпены, например в каротиноидах и стероид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A51-0266-4913-9367-ADF2FB2EE9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img0"/>
          <p:cNvPicPr/>
          <p:nvPr/>
        </p:nvPicPr>
        <p:blipFill>
          <a:blip r:embed="rId2"/>
          <a:stretch/>
        </p:blipFill>
        <p:spPr>
          <a:xfrm>
            <a:off x="6858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FAF-84B1-47A6-B19D-A6EBC26CB7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13-05-03T10:01:3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